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AC0B-F991-4E36-A8F3-AE7FB064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3394-0C21-4310-9410-4312FB12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8F40-EDF4-4891-BCE0-82DCE16A4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5A54-BE8A-49B0-A1D2-8DC0CBB3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B7E6-392B-4E4A-8D5D-7DD94650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5708-842A-4166-871F-35233AB2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44F2-2BC2-4499-B204-EDD6FF79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DF33-A1E5-4DF3-AF11-5A4233C3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905F-F0D0-4ABC-B77C-C6302F17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192A-CA5E-4203-849B-5682B263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ABAD-9D10-4E59-A0D8-01DEF5BE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186E-77FF-4081-B67C-F9F0AD63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1983-1AA6-4E28-8004-41762346D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227160" y="3716280"/>
            <a:ext cx="8689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أن هناك من المسلمين من يسمع لقول المنافقين ويعجب 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793800" y="1125360"/>
            <a:ext cx="8190000" cy="64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2673360" y="3043080"/>
            <a:ext cx="6273720" cy="635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1058760" y="4653000"/>
            <a:ext cx="7834320" cy="64764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50920" y="5300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تخلف عن القتال مع ا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74680" y="1844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و كان في نيتهم الخروج للقتال لتجهزوا بالعدة والزا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12"/>
          <a:stretch/>
        </p:blipFill>
        <p:spPr>
          <a:xfrm>
            <a:off x="250920" y="836640"/>
            <a:ext cx="864216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588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3"/>
          <a:stretch/>
        </p:blipFill>
        <p:spPr>
          <a:xfrm>
            <a:off x="250920" y="1082520"/>
            <a:ext cx="863100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96600" cy="7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250920" y="2008080"/>
            <a:ext cx="8642160" cy="46609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719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خر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مكثوا مع المرضى والنساء والصبيان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سمح لي في التخلف عن القتا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1484280"/>
            <a:ext cx="8665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ون يمثلون خطراً عظيماً على 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 والمسلم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206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ساءه عز الإسلام وانتشاره وتمسك الناس به وإن صلى وصام وزعم أنه مسلم فهو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اف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278136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ذكر تخلف المنافقين للرسول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والمؤمن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تسلية 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3429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سعي لإطفاء نور الله والصد عن سبي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400536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نع الإمام من يُتهم بمضرة المسلمين من الخروج للجهاد في سبيل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ن حق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4581360"/>
            <a:ext cx="8665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نزول قوله تعالى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نزل في الجد بن قيس حين قال للنبي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إني أخشى على نفسي ببنات بني الأصفر فأذن لي في القعود . فأذن 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2"/>
          <a:stretch/>
        </p:blipFill>
        <p:spPr>
          <a:xfrm>
            <a:off x="3243240" y="4657680"/>
            <a:ext cx="3705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27160" y="2004840"/>
            <a:ext cx="8689680" cy="3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الجهاد مع المؤمن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فساد بين المؤمن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سعي بالنميمة بين ا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كرهون الح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قليب الحقائ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قول الأعذار الواه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3"/>
          <a:stretch/>
        </p:blipFill>
        <p:spPr>
          <a:xfrm>
            <a:off x="1217520" y="1197000"/>
            <a:ext cx="769932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0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395280" y="1557360"/>
            <a:ext cx="8497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2T05:56:18Z</dcterms:modified>
  <cp:revision>1827</cp:revision>
  <dc:subject/>
  <dc:title>عرض تقديمي في PowerPoint</dc:title>
</cp:coreProperties>
</file>